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670-5B31-486A-AAC8-E302A9F9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02C-0EF9-4EEC-8C05-693B253B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5AB-2839-447F-A03B-2EDEE386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F78-38E0-48BC-B1DE-11F07485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8B9-EE28-4E38-8781-E236BDFD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AB4F-E65B-4E7D-A422-26D5F923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DAA-5464-472F-BD34-138D5F5E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38C-9D24-46C2-A152-A5C91039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C9A-AEBD-4D6C-9695-F2F0F835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261-0B5B-4275-994F-CDFEF96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43E-9860-492E-B046-A92BD88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BD3-96AF-40C9-B91D-21E9C47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2713-38B1-478A-93C8-DD27FB3D4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n.wikipedia.org/wiki/Fil:Romeo_and_juliet_brow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n.wikipedia.org/wiki/Fil:Romeo_and_juliet_brown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2664000" cy="1873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26640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RJ collage"/>
          <p:cNvPicPr/>
          <p:nvPr/>
        </p:nvPicPr>
        <p:blipFill>
          <a:blip r:embed="rId1"/>
          <a:stretch/>
        </p:blipFill>
        <p:spPr>
          <a:xfrm>
            <a:off x="2543040" y="2014560"/>
            <a:ext cx="40579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Romeo and Juliet måla av Ford Madox Brown"/>
          <p:cNvPicPr/>
          <p:nvPr/>
        </p:nvPicPr>
        <p:blipFill>
          <a:blip r:embed="rId1"/>
          <a:stretch/>
        </p:blipFill>
        <p:spPr>
          <a:xfrm>
            <a:off x="155520" y="46080"/>
            <a:ext cx="2619360" cy="36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Romeo and Juliet, Sir Frank Dicksee"/>
          <p:cNvPicPr/>
          <p:nvPr/>
        </p:nvPicPr>
        <p:blipFill>
          <a:blip r:embed="rId2"/>
          <a:stretch/>
        </p:blipFill>
        <p:spPr>
          <a:xfrm>
            <a:off x="4284720" y="476280"/>
            <a:ext cx="3333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402000" cy="40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4164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667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168720" cy="2228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1687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3054240" cy="381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84720" y="404640"/>
            <a:ext cx="4152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38240" y="1523880"/>
            <a:ext cx="5267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7147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8:10:09Z</dcterms:created>
  <dc:creator>helen3009</dc:creator>
  <dc:description/>
  <dc:language>en-US</dc:language>
  <cp:lastModifiedBy>helen3009</cp:lastModifiedBy>
  <dcterms:modified xsi:type="dcterms:W3CDTF">2007-12-19T10:34:05Z</dcterms:modified>
  <cp:revision>3</cp:revision>
  <dc:subject/>
  <dc:title>Lysbilde 1</dc:title>
</cp:coreProperties>
</file>